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154-6E0D-4847-A31D-CCAB7022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859-F606-4FCF-ADB3-6B74909D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58B-1E50-4AD6-814A-E05E800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1D9-1633-43A1-9416-287FAB89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CB8-6115-40E6-B406-41FA9721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A57-5FB8-49A5-85A6-F26FDAE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1A3-215B-481F-B171-97AFB69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CD3-E708-4000-9DB4-CC9083D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690-8E27-4CA6-B38A-FD077583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A4C-549F-42EB-A0D3-9116DEB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A09-F049-4F14-9A5F-806B3BC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4DC-741D-4821-A9D8-180F62F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81D-0093-48AE-A30A-33E6950C6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6764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ar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160" y="153180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6420f"/>
                </a:solidFill>
                <a:latin typeface="Book Antiqua"/>
              </a:rPr>
              <a:t>Elidegened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2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dernizáció egyik meghatározó élménye az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elidegenedé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– a tradicionális beágyazottság csökken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97280"/>
            <a:ext cx="5048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idegenedés a munka tárgyát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5600" y="4489560"/>
            <a:ext cx="56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idegenedés a munka folyamatát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095800"/>
            <a:ext cx="56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idegenedés az emberi természettő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5600" y="5835600"/>
            <a:ext cx="564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idegenedés a társadalomt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17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dern ember életélménye attól függ, hogy vonatkoztatási pontja hol találhat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5776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Vonatkoztatási p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7800" y="2717640"/>
            <a:ext cx="17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otth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21400" y="2717640"/>
            <a:ext cx="17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más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117960"/>
            <a:ext cx="2428920" cy="204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97760" y="3117960"/>
            <a:ext cx="2428560" cy="204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2560" y="3879720"/>
            <a:ext cx="209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Vonatkoztatási pont a saját társadalom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6520" y="389556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Vonatkoztatási pont más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27480" y="4971960"/>
            <a:ext cx="209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Vonatkoztatási pont nélküli emb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24040" y="336852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Vonatkoztatási pontot kereső emb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46360"/>
            <a:ext cx="91440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onatkoztatási pont az egyén otthonában van, a turizmus csak a hétköznapokra való felkészülés tere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tiváció az otthoni viszonyokból következik (pus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élmény autentikussága nem érdekli – a turizmus a játék, a szórakozás, a feltöltődés tere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zmus funkciója a modern társadalmakban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feszültség levezeté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1. Feltöltőd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080" y="482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ípus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2. Változato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080" y="482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ípus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46360"/>
            <a:ext cx="91440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saját társadalmától elidegenedett ember elvesztette saját társadalmában a vonatkoztatási pontot, azt folyamatos élménykereséssel pótol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z utazás nem célja a saját társadalomhoz való kötődés helyreállítása, önmagáért való tevékenység le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z elidegenedettség nem tudatosul, a turista nem keres tudatosan autentikus élménye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3. Élménye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080" y="482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ípus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46360"/>
            <a:ext cx="914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idegenedés tudatosulásának hatására a modern ember az utazást a nem-elidegenedett társadalom keresésére, az eredetiség megtalálására próbálja felhasználn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tiváció otthoni és a meglátogatott hely viszonyaiból egyaránt következik (push &amp; pu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árhuzam a vallási élménnyel (kilépés a hétköznapokból, átszellemülés, visszatéré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robléma: a turista-élmény élmény elüzletiesed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4. Kísérletez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080" y="482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ípus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746360"/>
            <a:ext cx="914400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z élménykeresést tudatosan a személyiségének gazdagítására, saját vonatkoztatási pont létrehozására használja f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mozaikszerűen felépülő, individualizált identitás a tudatos késő-modern ember sajátosság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folyamatos keresés azonban állandó átalakulást, a soha meg nem érkezés veszélyét hordja magában – a stabilitás elvesztésének késő-modern élmény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5. Életmód vált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080" y="482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Típus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46360"/>
            <a:ext cx="9144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onatkoztatási pontot egy másik társadalomban-kultúrában találja meg, de a lakóhely megváltoztatására nincs lehetősé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dminisztratív akadályok vagy a vonatkoztatási pontok eltérése lehet az 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 turistaként „utazik haz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egvalósít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46360"/>
            <a:ext cx="914400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turisztikai fogyasztást annál egyszerűbb megvalósítani, minél közelebb áll az utazó saját kultúrájáh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feltöltődést és/vagy változatosságot kereső utazó csak szórakozást igényel, ez könnyen megvalósítha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z élménykereső utazó a turisztikai szakma intézményesülésével szembesü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 kísérletező és az életmód váltásra törekvő embernek kockázatot kell vállalnia a saját státusz feladásá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Imázs és élmé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6360"/>
            <a:ext cx="91440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urisztikai desztináció, mint vonatkoztatási pont imázsa eltérhet a hely tényleges viszonyaitól (vallási központ </a:t>
            </a: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modern nagyváros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ely sokszínűségét nehezebb befolyásolni, mit a turisztikai imázst kialakíta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onatkoztatási pont állandóságával szükségszerűen szemben áll a modern élet dinamikus változ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Hamisít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4636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Gazdasági log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Önvéde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Belső átalaku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5920" y="6764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ar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7160" y="153180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6420f"/>
                </a:solidFill>
                <a:latin typeface="Book Antiqua"/>
              </a:rPr>
              <a:t>Elidegened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32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dernizáció egyik meghatározó élménye az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elidegenedé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– a tradicionális beágyazottság csökken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29000" y="3367080"/>
            <a:ext cx="38912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160" y="153180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6420f"/>
                </a:solidFill>
                <a:latin typeface="Book Antiqua"/>
              </a:rPr>
              <a:t>Elidegened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32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idegenedett ember igyekszik helyreállítani a környezetéhez fűződő harmonikus kapcsolatot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71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eresi azokat a kapcsolódási pontokat, amelyekhez kapcsolódva növelheti a társadalmi beágyazottságá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711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eresi azokat az élményeket, melyeket egy elidegenedett világban eredetinek ér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78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lehet-e ez a turizmu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864560" y="339084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600" spc="-1" strike="noStrike">
                <a:solidFill>
                  <a:srgbClr val="e6420f"/>
                </a:solidFill>
                <a:latin typeface="Book Antiqu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04760" y="154620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420f"/>
                </a:solidFill>
                <a:latin typeface="Book Antiqu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606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idegenedett modern társadalom tagjai nem is igénylik az eredeti élményeket, a turizmusban is csak a felszínes szórakozást keresik (Boorst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3149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dern turizmus olyan mesterséges élményeket hoz létre, melyekkel becsapja az eredeti, „autentikus” valóságot őszintén kereső embert (MacCanne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03680" y="561960"/>
            <a:ext cx="45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Nem, mer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22320"/>
            <a:ext cx="91440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korábbi megközelítések túlzottan általánosítóak és partikulárisak egybe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Boorstin állításai a középosztály tömegfogyasztóvá váló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étegeire igaz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acCannell naív utazótípusa inkább a közöttségektől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entes fiatalság körében fordul el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561960"/>
            <a:ext cx="45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Coh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2196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özös hiba, hogy a turisták viselkedésére egységes magyarázatot, nem veszi figyelembe az utazási magatartást befolyásoló különbsége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146320"/>
            <a:ext cx="91440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mberek különféleképpen élik át a turisztikai élménye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o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zetisé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ársadalmi státusz szeri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2600" y="561960"/>
            <a:ext cx="45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Coh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5054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Javaslata: a turisztikai élmények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ideáltípusait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ell megalkotn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517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Cohen a </a:t>
            </a:r>
            <a:r>
              <a:rPr b="0" lang="hu-HU" sz="2600" spc="-1" strike="noStrike">
                <a:solidFill>
                  <a:srgbClr val="666699"/>
                </a:solidFill>
                <a:latin typeface="Book Antiqua"/>
              </a:rPr>
              <a:t>modern ember és a társadalom viszonyát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elyezi a vizsgálat középpontjába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861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iindulópontja az elidegenedés problémája – ezt azonban nem egységesnek, hanem személyenként eltérőnek feltételez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5240" y="565776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 tipológiák alapj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8257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arx-szal szemben feltételezi, hogy a modern társadalomban léteznek olyan mechanizmusok, melyek csökkentik a modernizáció elidegenítő, beágyazottságot csökkentő hatásá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517760"/>
            <a:ext cx="91440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onatkoztatási pont az egyén számára mintaként szolgáló társadalmi-kulturális ren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vallási (h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ulturális (identitá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ársadalmi (hálóz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politikai (állampolgári jogo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240" y="565776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Vonatkoztatási p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sta tip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17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onatkoztatási pontok a modern társadalomban egymással átfedésben léteznek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5240" y="565776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Vonatkoztatási p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86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Cohen számára a kérdés a vonatkoztatási pontok egymáshoz fűződő viszony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987720"/>
            <a:ext cx="178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gybees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7320" y="4498920"/>
            <a:ext cx="17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lent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93960" y="5057640"/>
            <a:ext cx="17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átfe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4-20T06:00:40Z</dcterms:modified>
  <cp:revision>296</cp:revision>
  <dc:subject/>
  <dc:title>1. dia</dc:title>
</cp:coreProperties>
</file>